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7.wmf" ContentType="image/x-wmf"/>
  <Override PartName="/ppt/media/image26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8.png" ContentType="image/png"/>
  <Override PartName="/ppt/media/image34.jpeg" ContentType="image/jpeg"/>
  <Override PartName="/ppt/media/image29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4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1.wmf" ContentType="image/x-wmf"/>
  <Override PartName="/ppt/media/image15.wmf" ContentType="image/x-wmf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080625" cy="7559675"/>
  <p:notesSz cx="7772400" cy="10058400"/>
  <p:custShowLst>
    <p:custShow name="Notra_June10_2004" id="0">
      <p:sldLst>
        <p:sld r:id="rId3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860292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56880"/>
            <a:ext cx="860292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5688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5688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04120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04120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5688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5688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56880"/>
            <a:ext cx="27698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041200"/>
            <a:ext cx="860292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860292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41979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041200"/>
            <a:ext cx="41979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8560" y="534960"/>
            <a:ext cx="860256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041200"/>
            <a:ext cx="41979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5688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41979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5688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041200"/>
            <a:ext cx="419796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56880"/>
            <a:ext cx="860292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0"/>
            <a:ext cx="920880" cy="7559640"/>
          </a:xfrm>
          <a:custGeom>
            <a:avLst/>
            <a:gdLst/>
            <a:ahLst/>
            <a:rect l="l" t="t" r="r" b="b"/>
            <a:pathLst>
              <a:path w="2558" h="21000">
                <a:moveTo>
                  <a:pt x="0" y="0"/>
                </a:moveTo>
                <a:lnTo>
                  <a:pt x="2557" y="20999"/>
                </a:lnTo>
                <a:lnTo>
                  <a:pt x="0" y="2099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6c0cc"/>
              </a:gs>
              <a:gs pos="100000">
                <a:srgbClr val="dddddd"/>
              </a:gs>
            </a:gsLst>
            <a:lin ang="5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3828960" y="6661080"/>
          <a:ext cx="5761080" cy="53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8960" y="6661080"/>
                    <a:ext cx="5761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2041200"/>
            <a:ext cx="860292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lnSpc>
                <a:spcPct val="95000"/>
              </a:lnSpc>
              <a:buClr>
                <a:srgbClr val="96c0cc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428760">
              <a:lnSpc>
                <a:spcPct val="95000"/>
              </a:lnSpc>
              <a:buClr>
                <a:srgbClr val="96c0cc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426960">
              <a:lnSpc>
                <a:spcPct val="95000"/>
              </a:lnSpc>
              <a:buClr>
                <a:srgbClr val="96c0cc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2240" indent="-427320">
              <a:lnSpc>
                <a:spcPct val="95000"/>
              </a:lnSpc>
              <a:buClr>
                <a:srgbClr val="96c0cc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0960" indent="-428760">
              <a:lnSpc>
                <a:spcPct val="95000"/>
              </a:lnSpc>
              <a:buClr>
                <a:srgbClr val="96c0cc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50960" indent="-4287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50960" indent="-4287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2360" y="1274400"/>
            <a:ext cx="759312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3538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 u="sng">
                <a:solidFill>
                  <a:srgbClr val="000080"/>
                </a:solidFill>
                <a:uFillTx/>
                <a:latin typeface="Arial"/>
              </a:rPr>
              <a:t>Comparison of VARSKIN+ EyeDose</a:t>
            </a:r>
            <a:br>
              <a:rPr sz="2800"/>
            </a:br>
            <a:r>
              <a:rPr b="0" i="1" lang="en-GB" sz="2800" spc="-1" strike="noStrike" u="sng">
                <a:solidFill>
                  <a:srgbClr val="000080"/>
                </a:solidFill>
                <a:uFillTx/>
                <a:latin typeface="Arial"/>
              </a:rPr>
              <a:t>and new Eye Dose Calculators</a:t>
            </a:r>
            <a:endParaRPr b="1" i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96800" y="414360"/>
            <a:ext cx="4687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MP 2024 Dosimetry Sympos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384720" y="4427640"/>
            <a:ext cx="397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: Jacques Dub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dubeau@detec-rad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184720" y="6550200"/>
            <a:ext cx="294156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352760" y="6550200"/>
            <a:ext cx="68760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8263080" y="6550200"/>
            <a:ext cx="16254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Protection quantiti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20840" y="1179360"/>
            <a:ext cx="5639040" cy="5200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163240" y="6588000"/>
            <a:ext cx="59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om Behrens and Dietze (2009) and used by ICRP 1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Protection quantiti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224000" y="154764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Coefficients from </a:t>
            </a:r>
            <a:r>
              <a:rPr b="0" i="1" lang="en-CA" sz="2000" spc="-1" strike="noStrike">
                <a:solidFill>
                  <a:srgbClr val="3333cc"/>
                </a:solidFill>
                <a:latin typeface="Times New Roman"/>
              </a:rPr>
              <a:t>Compilation of conversion coefficients for the dose to the lens of the eye</a:t>
            </a: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 [Behrens, 2017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Electrons, 2 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Positron, 2 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Photons, 8 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Total available from Behrens: 43 tables (electrons (7), photons (29), positrons (7)) [Behrens, private communication, 201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ICRP 116 (2010) – aimed to be conserv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Photons: used data for “stylized” eye model (up to 2 MeV)[Behrens] and average male-female reference phantom values at higher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</a:rPr>
              <a:t>Electron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  <a:ea typeface="HG Mincho Light J;MS Mincho;HG "/>
              </a:rPr>
              <a:t>for AP direction, used “stylized” eye model  [Behrens, 201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  <a:ea typeface="HG Mincho Light J;MS Mincho;HG "/>
              </a:rPr>
              <a:t>for isotropic geometry used AP values up to 1 Me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imes New Roman"/>
                <a:ea typeface="HG Mincho Light J;MS Mincho;HG "/>
              </a:rPr>
              <a:t>for all other conditions, used values from reference phan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Protection quantiti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60360" y="1547640"/>
            <a:ext cx="93600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Some referen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rens R., Dietze G., Zankl M., 2010.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se Conversion Coefficients for Electron Exposure of The Human Eye Lens (Corrigendum)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Phys. Med. Biol., 55, 4069-40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rens R., Dietze G., 2011.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se Conversion Coefficients for Photon Exposure of the Human Eye Le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Phys. Med. Biol., 56, 415-43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rens R., 2013.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se Conversion Coefficients for Electron Exposure of the Human Eye Lens: Calculations Including a Whole Body Phantom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adiat. Prot. Dosim., 155 (2), 224-2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rens R., 2017,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ation of Conversion Coefficients for the Dose to the Lens of the Ey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ad. Prot. Dosim., 174 (3), 348-37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CRP, 2010. International Commission on Radiological Protection.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sion Coefficients for Radiological Protection Quantities for External Radiation Exposur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ICRP Publication 116, Ann. ICRP 40 (2-5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ologies for omi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Operational quantiti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60360" y="1042920"/>
            <a:ext cx="936000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CA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CA" sz="18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(3, </a:t>
            </a:r>
            <a:r>
              <a:rPr b="0" lang="el-GR" sz="1800" spc="-1" strike="noStrike">
                <a:solidFill>
                  <a:srgbClr val="3333cc"/>
                </a:solidFill>
                <a:latin typeface="Times New Roman"/>
              </a:rPr>
              <a:t>α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) : dose at 3 mm depth in a 20 x 20 right circular cylinder made of ICRU 4-element tiss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Proposed by ORAMED collaboration (ORAMED: Optimization of radiation protection of medical staff, </a:t>
            </a:r>
            <a:r>
              <a:rPr b="0" i="1" lang="fr-CA" sz="1800" spc="-1" strike="noStrike">
                <a:solidFill>
                  <a:srgbClr val="3333cc"/>
                </a:solidFill>
                <a:latin typeface="Times New Roman"/>
              </a:rPr>
              <a:t>Vanhavere et al., 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201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655640" y="3132000"/>
            <a:ext cx="6431040" cy="2943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463840" y="634680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Figure from ORAMED Report [Vanhavere, 2012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Operational quantiti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16000" y="880920"/>
            <a:ext cx="9359640" cy="69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Some referen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ures J., Gouriou J., Bordy J.-M., 2009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sion coefficients from air kerma to personal dose equivalent H</a:t>
            </a:r>
            <a:r>
              <a:rPr b="0" i="1" lang="en-CA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3) for eye-lens dosimetry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CEA-R-623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iotti F., Gualdrini G., Fantuzzi E., Ferrari P., Monteventi F., 2011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Proposal on the Operational Quantity Hp(3): Monte Carlo and Experimental Result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Rad. Prot. Dosim., 46, 375-38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nhavere F. et al., 2012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AMED: Optimization of Radiation Protection of Medical Staff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EURADOS report 2012-02, ISSN 2226-8057, ISBN 978-943701-01-2, Braunschwei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errari P., Gualdrini G., 2012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ye Lens Dosimetry: Hp(3), Fluence to Dose Conversion Coefficients for Electrons from 800 keV to 10 MeV Based on MCNPX Simulation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ENEA Technical Repor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ualdrini G., Bordy J.-M., Daures F., Fantuzzi E., Ferrari P., Mariotti F., Vanhavere F., 2013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ir Kerma to H</a:t>
            </a:r>
            <a:r>
              <a:rPr b="0" i="1" lang="en-CA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3) Conversion Coefficients for Photons from 10 keV to 10 MeV Calculated in a Cylindrical Phantom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Rad. Prot Dosim., 154 (4), 517-52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O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adiological protection — X and gamma reference radiation for calibrating dosemeters and doserate meters and for determining their response as a function of photon energy — Part 3: Calibration of area and personal dosemeters and the measurement of their response as a function of energy and angle of incid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ISO4037-3:201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Sun J., 2020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 eye-lens dose operational coefficient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Rad. Port. Dosim., Vol. 188(3), pp. 372-3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Sun J., Djeffal S., Ali F., 2024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calculations of electron eye-lens operational dose coefficients using the Monte Carlo Codes PENELOPE and MCNP6.2,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hys., Vol. 126(5), pp. 339-34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ologies for omissions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108000"/>
            <a:ext cx="9034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lectron protection and operational quantities</a:t>
            </a:r>
            <a:endParaRPr b="1" i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619280" y="665964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lectron protection and operational dose coefficients at 0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82760" y="1353960"/>
            <a:ext cx="73152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1511280" y="665964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hoton protection and operational dose coefficients at 0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er unit air kerma. Also available in pGy-cm</a:t>
            </a:r>
            <a:r>
              <a:rPr b="0" lang="fr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389240" y="1173240"/>
            <a:ext cx="696420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431640" y="108000"/>
            <a:ext cx="90345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hoton protection and operational qua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016000" y="1116000"/>
            <a:ext cx="5648400" cy="5048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56040" y="2484360"/>
            <a:ext cx="144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voids mixing 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protection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effici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Straight Arrow Connector 7"/>
          <p:cNvCxnSpPr/>
          <p:nvPr/>
        </p:nvCxnSpPr>
        <p:spPr>
          <a:xfrm flipV="1">
            <a:off x="1797120" y="2050200"/>
            <a:ext cx="4356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Box 10"/>
          <p:cNvSpPr/>
          <p:nvPr/>
        </p:nvSpPr>
        <p:spPr>
          <a:xfrm>
            <a:off x="7979400" y="1979640"/>
            <a:ext cx="20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Gives reference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description of coeffic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Straight Arrow Connector 12"/>
          <p:cNvCxnSpPr/>
          <p:nvPr/>
        </p:nvCxnSpPr>
        <p:spPr>
          <a:xfrm flipH="1" flipV="1">
            <a:off x="5544720" y="2050560"/>
            <a:ext cx="23392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Box 13"/>
          <p:cNvSpPr/>
          <p:nvPr/>
        </p:nvSpPr>
        <p:spPr>
          <a:xfrm>
            <a:off x="7779960" y="4840200"/>
            <a:ext cx="222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lerts about incompat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ngle but will do calc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fter timeo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Straight Arrow Connector 15"/>
          <p:cNvCxnSpPr/>
          <p:nvPr/>
        </p:nvCxnSpPr>
        <p:spPr>
          <a:xfrm flipH="1">
            <a:off x="6264000" y="5056200"/>
            <a:ext cx="140040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24000" y="1979640"/>
            <a:ext cx="7315200" cy="1719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301040" y="4881600"/>
            <a:ext cx="71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f single energies are entered, ELDC will interpolate and give 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 same unit as original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Straight Arrow Connector 8"/>
          <p:cNvCxnSpPr/>
          <p:nvPr/>
        </p:nvCxnSpPr>
        <p:spPr>
          <a:xfrm flipV="1">
            <a:off x="2808000" y="3418920"/>
            <a:ext cx="10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Straight Arrow Connector 14"/>
          <p:cNvCxnSpPr/>
          <p:nvPr/>
        </p:nvCxnSpPr>
        <p:spPr>
          <a:xfrm flipV="1">
            <a:off x="4247640" y="3418920"/>
            <a:ext cx="10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Straight Arrow Connector 16"/>
          <p:cNvCxnSpPr/>
          <p:nvPr/>
        </p:nvCxnSpPr>
        <p:spPr>
          <a:xfrm flipV="1">
            <a:off x="6264000" y="3418920"/>
            <a:ext cx="10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Straight Arrow Connector 17"/>
          <p:cNvCxnSpPr/>
          <p:nvPr/>
        </p:nvCxnSpPr>
        <p:spPr>
          <a:xfrm flipV="1">
            <a:off x="7919640" y="3418920"/>
            <a:ext cx="10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792000" y="1413000"/>
            <a:ext cx="89283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n_protection.db, which includes 7 sets of d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/Gy, maximum of the dose to the sensitive part of the left or right eye in the CPE approximation, Table A6 in [Behrens, 2017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/Gy, maximum of the dose to the sensitive part of the left or right eye in the non-CPE approximation, Table A5 in [Behrens, 2017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/Gy, maximum of the dose to the whole lens for the left or right eye in the CPE approximation, Table A11 in [Behrens, 2017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/Gy, maximum of the dose to the whole lens for the left or right eye in the non-CPE approximation, Table A12 in [Behrens, 2017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/Gy, dose to the eye lens, Table A.18 in ICRP74 [ICRP, 1996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se to the sensitive part, Table B2 in [Behrens, 2011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se to the whole lens, Table B2 in [Behrens, 2011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77840" y="1820880"/>
            <a:ext cx="842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ity determination (in contamination) &amp; Skin dose software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Activity and Skin Dose Calculator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AS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ye-lens dose calculation based on published dose coefficients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ye Lens Dose Calcula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or (EL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ye-lens dose calculator based on contact exposures (hot particles and liquids)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ontaminated-Eye Dose Calc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Development funded by CANDU Owners Group(COG). Collaborations between Canadian Nuclear Laboratories, DETEC and the Canadian Nuclear Safety 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8560" y="5349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4000" spc="-1" strike="noStrike">
                <a:solidFill>
                  <a:srgbClr val="808080"/>
                </a:solidFill>
                <a:latin typeface="Arial"/>
              </a:rPr>
              <a:t>Development of a “family” of cod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14440" y="1241280"/>
            <a:ext cx="9001080" cy="61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n_operational.db, which includes 11 sets of d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non-CPE, Tables 21 to 21 in [Daures, 2009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coefficients given for various standard photon qualities, under CPE condition, from Table 3 of [Behrens, 2012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CPE condition, in an ICRU tissue slab phantom, from Table 1 in [Grosswendt, 1991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CPE condition, in PMMA slab phantom, from Table 2 in [Grosswendt, 1991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CPE condition, in a 20×20 cm ICRU tissue cylinder from Table 2.2 in [Vanhavere, 2012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CPE condition, in a 20×20 cm ICRU tissue cylinder from Table 2 in [Gualdrini, 201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/Gy, non-CPE condition, in a 20×20 cm ICRU tissue cylinder from Table 3 in [Gualdrini, 201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n-CPE condition, in a 20×20 cm ICRU tissue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PE condition, in a 20×20 cm ICRU tissue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n-CPE condition, in a 20×20 cm PMMA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n-CPE condition, in a 20×20 cm polycarbonate (Lexa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6360" y="820800"/>
            <a:ext cx="8928000" cy="64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_protection.db, which includes 6 sets of d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thin radiosensitive part of the lens, Table A1 in [Behrens, 2010b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 whole lens, Table A1 in [Behrens, 2010b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thin radiosensitive part of the lens, Table A1 in [Behrens, 2017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whole lens, Table A7 in [Behrens, 2017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whole lens, Table F.2 in ICRP 116 [ICRP, 2012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y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thin radiosensitive part of the lens and the whole lens, Table 5 in [Nogueira, 2011]. Note: This group contains calculated coefficients for different eye-lens depth, i.e., different cornea thickness values as found in the general popul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_operational.db, which includes, includes 5 sets of d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 3 mm depth in a 20×20 cm ICRU tissue cylinder, Table 1 and 2 in [Ferrari, 2012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 3 mm depth in a 20×20 cm ICRU tissue cylinder, Table 1 and 2 in [Dubeau, 202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 3 mm depth in a 20×20 cm Lexa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 3 mm depth in a 20×20 cm PMMA cylinder, this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v-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 3mm depth in an ICRU tissue slab, Tables A.44 and A.46 in ICRP 74 [ICRP, 1996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519280" y="205092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528480" y="2124000"/>
            <a:ext cx="4572000" cy="308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5767560" y="269244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60360" y="1008000"/>
            <a:ext cx="93600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e calcu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distanc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istance greater than 5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alculated via Monte Carlo for 0.5 mm to 5 cm via paramet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(for unit emi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e = ε/(4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297160" y="3619440"/>
            <a:ext cx="54864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47800" y="820800"/>
            <a:ext cx="8334360" cy="5486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3319560" y="65390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ata saved as tex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DC vs VARSKIN+,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85800" y="1042920"/>
            <a:ext cx="6858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DC vs VARSKIN+, 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58760" y="1835280"/>
            <a:ext cx="5905440" cy="44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264360" y="2556000"/>
            <a:ext cx="3657600" cy="27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079640" y="1433520"/>
            <a:ext cx="8229600" cy="4692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590840" y="63262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ctivities 10 kB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08000" y="1547640"/>
            <a:ext cx="8229600" cy="46771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1590840" y="63262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ctivities 10 kB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19280" y="1547640"/>
            <a:ext cx="914400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3"/>
          <p:cNvSpPr/>
          <p:nvPr/>
        </p:nvSpPr>
        <p:spPr>
          <a:xfrm>
            <a:off x="304920" y="1995480"/>
            <a:ext cx="3495600" cy="378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5076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4000" spc="-1" strike="noStrike">
                <a:solidFill>
                  <a:srgbClr val="808080"/>
                </a:solidFill>
                <a:latin typeface="Arial"/>
              </a:rPr>
              <a:t>Common structure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716360" y="1649520"/>
            <a:ext cx="4572000" cy="4867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4920" y="2050920"/>
            <a:ext cx="365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all SQLite databa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re-calcu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onte Carl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dose coeffic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adiation emission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1252 radionuclid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CRP 1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16360" y="2987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=&gt;&g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236200" y="1163520"/>
            <a:ext cx="37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UI developed using Auto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740120" y="6726240"/>
            <a:ext cx="28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op down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adionuclide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" name="Straight Arrow Connector 9"/>
          <p:cNvCxnSpPr/>
          <p:nvPr/>
        </p:nvCxnSpPr>
        <p:spPr>
          <a:xfrm flipV="1">
            <a:off x="6408360" y="4571280"/>
            <a:ext cx="594360" cy="206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TextBox 10"/>
          <p:cNvSpPr/>
          <p:nvPr/>
        </p:nvSpPr>
        <p:spPr>
          <a:xfrm>
            <a:off x="342360" y="61261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pecifying % or absol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tivity in mix for up to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adionuc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V="1">
            <a:off x="3728880" y="4571280"/>
            <a:ext cx="1672560" cy="18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828720" y="4140360"/>
            <a:ext cx="8602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 extension of the work providing DRCF for 100 radionuc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same as significant skin dose contamina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Djeffal S., Sun J., Ali F., 2023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ye-lens dose rate conversion factors due to hot particles and surface contaminations on the corn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J. Radiol. Prot., vol 42 (4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950760" y="1330200"/>
            <a:ext cx="86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O15382 states (2015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11400" y="2065320"/>
            <a:ext cx="8229600" cy="10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360360" y="1474920"/>
            <a:ext cx="4572000" cy="437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048360" y="1457280"/>
            <a:ext cx="3193920" cy="43801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228600" y="6083280"/>
            <a:ext cx="5327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ot particle: 0, 10, 100 and 1000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m d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Materials: void, plastic, Aluminum, Steel and UO</a:t>
            </a:r>
            <a:r>
              <a:rPr b="0" lang="fr-C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Position: centered or off-cen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6055920" y="608328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urface contamination - th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479520" y="223344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256360" y="223344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1580040" y="5621400"/>
            <a:ext cx="69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hoton DRCF                                         Electron DRC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76360" y="1332000"/>
            <a:ext cx="91440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655640" y="1403280"/>
            <a:ext cx="6438960" cy="43052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1224000" y="612612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Photon database DRCF (red line) versus VARSKIN+ 1.1 (po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point particle on contact (set as 0.03 mm for V+ 1.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fferences 0 to 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914400" y="60847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Electron database DRCF (red line) versus VARSKIN+ 1.1 (po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point particle on contact (set as 0.03 mm for V+ 1.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fferences 0 to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820880" y="1474920"/>
            <a:ext cx="64389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2124000" y="637236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adionuclides in contact with center of 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point particle on contact (set as 0.03 mm for V+ 1.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033560" y="961920"/>
            <a:ext cx="82296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456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40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320760" y="1187280"/>
            <a:ext cx="96501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The Eye-Lens Dose Calculator (ELDC software) presents a convenient way for practitioners to access protection and operational eye-lens dose coefficient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2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Both compartments of the eye are consider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2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Operational and protection quantities can be easily compar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2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Agreement with VARSKIN limited by the intervening effect of air on electron radiation, which is neglected by the ELDC, and probable geometrical eff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aminated-Eye Dose Calculator provides dose rates for contact radioactive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Both compartment of the eye are consi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Non-zero mass particles considered in 3 geome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Times New Roman"/>
                <a:ea typeface="HG Mincho Light J;MS Mincho;HG "/>
              </a:rPr>
              <a:t>Very good agreement with VARSKIN+ for limited common geometries. Indicates that V+ can be used at short dist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10800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4000" spc="-1" strike="noStrike">
                <a:solidFill>
                  <a:srgbClr val="808080"/>
                </a:solidFill>
                <a:latin typeface="Arial"/>
              </a:rPr>
              <a:t>References</a:t>
            </a:r>
            <a:endParaRPr b="1" i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63640" y="1519200"/>
            <a:ext cx="860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Sun J., Hakmana Witharana S.S., 2023a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uter program for the determination of absolute activities in contaminations and skin do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Rad. Prot. Dosim., Vol. 199 (7), pp. 660-66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Sun J., 2023b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software for the calculation of eye-lens dosimetry quantities based on dose rate coeffici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Health Physics J., Vol. 125, pp. 383-39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Djeffal S., Sun J., Ali F., 2023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ye-lens dose rate conversion factors due to hot particles and surface contaminations on the corn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J. Radiol. Prot., vol 42 (4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beau J., Sun J., Djeffal S., Ali F., 2024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software for the calculation of eye-lens dose due to contact exposure with radioactive contamination and hot partic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poster presentation at IRPA 2024, Orla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820880" y="352440"/>
            <a:ext cx="7056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ity and Skin Dose Calculator (AS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7280" y="1511280"/>
            <a:ext cx="5781600" cy="398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1671480" y="5651640"/>
            <a:ext cx="338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ference  [Dubeau, 2023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264360" y="2700360"/>
            <a:ext cx="342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6135120" y="2124000"/>
            <a:ext cx="35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udlum 44-9 GM pancake pro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098800" y="352440"/>
            <a:ext cx="5832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EL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448000" y="6804000"/>
            <a:ext cx="24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 [Dubeau, 2023b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2575080" y="1068480"/>
            <a:ext cx="4879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24000" y="35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minated-Eye Dose Calculator” (CE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376360" y="6234120"/>
            <a:ext cx="33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ference [Dubeau, 2023c] [Dubeau, 2024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2147760" y="1187280"/>
            <a:ext cx="57438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841400" y="361800"/>
            <a:ext cx="639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647640" y="147492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ims of the projec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se of published electron and photon dose conversion coefficients to calculate dosimetric quantities related to the lens of the ey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ccessible the large body of these quantities without risk of “confusio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the comparison between operational and protection dose quant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dose quantities for single radionuclides or mixtures of radionucl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41400" y="361800"/>
            <a:ext cx="5720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ye-Lens Dose Calculator (2) Dose qua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511280" y="2630520"/>
            <a:ext cx="2505240" cy="2523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417680" y="1798560"/>
            <a:ext cx="26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realistic eye mod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5775480" y="2630520"/>
            <a:ext cx="2938320" cy="2523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5491080" y="1442880"/>
            <a:ext cx="349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3 mm depth in 20 x 2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ylindrical phant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684440" y="5253120"/>
            <a:ext cx="2669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Behrens, 2010, 2011, 2013, 2017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[ICRP, 201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767560" y="5232240"/>
            <a:ext cx="366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Behrens, 2012] [Daures, 2009] [Ferrari, 2012] [Gualdrini, 2013] [Mariotti, 2011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ISO, 2019] [Vanhavere, 2012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3137760" y="65372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nd many ot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841400" y="361800"/>
            <a:ext cx="5720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 algn="ctr">
              <a:lnSpc>
                <a:spcPct val="95000"/>
              </a:lnSpc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rray of availabl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1531080" y="1403280"/>
            <a:ext cx="6340680" cy="65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tion of parameters for protection quant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arget: whole-lens or radio-sensitiv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ticle type: electron, ph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: SCPE or non-SC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: units of pSv cm</a:t>
            </a:r>
            <a:r>
              <a:rPr b="0" lang="fr-CA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or Sv/Gy (air ker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s: mono-energetic or X-ray spec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ngles of incidence (left or right ey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tion of parameters for operational quant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ticle type: electron, ph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: SCPE or non-SC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: units of pSv cm</a:t>
            </a:r>
            <a:r>
              <a:rPr b="0" lang="fr-CA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or Sv/Gy (air ker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f photons: mono-energetic or X-ray spec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ngles of 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Avoid mixing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TEC</dc:creator>
  <dc:description/>
  <dc:language>en-US</dc:language>
  <cp:lastModifiedBy>Jacques Dubeau</cp:lastModifiedBy>
  <dcterms:modified xsi:type="dcterms:W3CDTF">2024-10-10T18:09:52Z</dcterms:modified>
  <cp:revision>160</cp:revision>
  <dc:subject/>
  <dc:title>Radiation protection and X-ray imaging applications of high resolution tracking detectors from high energy physics</dc:title>
</cp:coreProperties>
</file>